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10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15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4.wmf" ContentType="image/x-wmf"/>
  <Override PartName="/ppt/media/image6.png" ContentType="image/png"/>
  <Override PartName="/ppt/media/image20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908-3018-4D8C-B8E9-4D859026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350-C526-4027-9783-71F81B96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A1E-7A87-415F-8DF7-2AC9AB50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A97-8FB3-4E96-A154-6D870222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9AA-0592-4108-AB58-D50B7298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E65-2A69-4AE7-A962-C8651943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39B-D2FF-4FF0-92D2-07ECC9DC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BCC-5597-4D4F-A106-08965D55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7A9-2BDB-4571-8574-81871CE1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58DD-C907-4C9A-B8BB-B113E4CA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075-CF56-4BEF-8E06-2E429902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090-F973-4758-A6FC-D5636DF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10A6-A355-43FE-80CD-251F3BB7D8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3.jpeg"/><Relationship Id="rId5" Type="http://schemas.openxmlformats.org/officeDocument/2006/relationships/image" Target="../media/image4.jpe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5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4.jpeg"/><Relationship Id="rId5" Type="http://schemas.openxmlformats.org/officeDocument/2006/relationships/image" Target="../media/image9.png"/><Relationship Id="rId6" Type="http://schemas.openxmlformats.org/officeDocument/2006/relationships/image" Target="../media/image13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europe"/>
          <p:cNvPicPr/>
          <p:nvPr/>
        </p:nvPicPr>
        <p:blipFill>
          <a:blip r:embed="rId1"/>
          <a:stretch/>
        </p:blipFill>
        <p:spPr>
          <a:xfrm>
            <a:off x="2195640" y="1600200"/>
            <a:ext cx="475452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258920" y="476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Los pais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largemap"/>
          <p:cNvPicPr/>
          <p:nvPr/>
        </p:nvPicPr>
        <p:blipFill>
          <a:blip r:embed="rId1"/>
          <a:stretch/>
        </p:blipFill>
        <p:spPr>
          <a:xfrm>
            <a:off x="2030400" y="374760"/>
            <a:ext cx="508320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-2052720" y="1820880"/>
            <a:ext cx="13250880" cy="3216240"/>
            <a:chOff x="-2052720" y="1820880"/>
            <a:chExt cx="13250880" cy="3216240"/>
          </a:xfrm>
        </p:grpSpPr>
        <p:sp>
          <p:nvSpPr>
            <p:cNvPr id="60" name="Rectangle 3"/>
            <p:cNvSpPr/>
            <p:nvPr/>
          </p:nvSpPr>
          <p:spPr>
            <a:xfrm>
              <a:off x="-2052720" y="1820880"/>
              <a:ext cx="13250880" cy="32162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Group 4"/>
            <p:cNvGrpSpPr/>
            <p:nvPr/>
          </p:nvGrpSpPr>
          <p:grpSpPr>
            <a:xfrm>
              <a:off x="-2052720" y="1820880"/>
              <a:ext cx="13250880" cy="3216240"/>
              <a:chOff x="-2052720" y="1820880"/>
              <a:chExt cx="13250880" cy="3216240"/>
            </a:xfrm>
          </p:grpSpPr>
          <p:sp>
            <p:nvSpPr>
              <p:cNvPr id="62" name="Rectangle 5"/>
              <p:cNvSpPr/>
              <p:nvPr/>
            </p:nvSpPr>
            <p:spPr>
              <a:xfrm>
                <a:off x="-2052720" y="1820880"/>
                <a:ext cx="5045040" cy="4111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6"/>
              <p:cNvSpPr/>
              <p:nvPr/>
            </p:nvSpPr>
            <p:spPr>
              <a:xfrm>
                <a:off x="-2052720" y="1820880"/>
                <a:ext cx="13250880" cy="32162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  </a:t>
                </a:r>
                <a:r>
                  <a:rPr b="0" lang="en-GB" sz="198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7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4" name="Picture 7" descr="index"/>
          <p:cNvPicPr/>
          <p:nvPr/>
        </p:nvPicPr>
        <p:blipFill>
          <a:blip r:embed="rId1"/>
          <a:stretch/>
        </p:blipFill>
        <p:spPr>
          <a:xfrm>
            <a:off x="2013120" y="1866960"/>
            <a:ext cx="44686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talien"/>
          <p:cNvPicPr/>
          <p:nvPr/>
        </p:nvPicPr>
        <p:blipFill>
          <a:blip r:embed="rId1"/>
          <a:stretch/>
        </p:blipFill>
        <p:spPr>
          <a:xfrm>
            <a:off x="2286000" y="635040"/>
            <a:ext cx="4572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arte de France"/>
          <p:cNvPicPr/>
          <p:nvPr/>
        </p:nvPicPr>
        <p:blipFill>
          <a:blip r:embed="rId1"/>
          <a:stretch/>
        </p:blipFill>
        <p:spPr>
          <a:xfrm>
            <a:off x="2633760" y="92160"/>
            <a:ext cx="611496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206676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Carte de la Suisse"/>
          <p:cNvPicPr/>
          <p:nvPr/>
        </p:nvPicPr>
        <p:blipFill>
          <a:blip r:embed="rId1"/>
          <a:stretch/>
        </p:blipFill>
        <p:spPr>
          <a:xfrm>
            <a:off x="2235240" y="1881360"/>
            <a:ext cx="4675320" cy="3097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71640" y="836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i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arte%20Angleterre"/>
          <p:cNvPicPr/>
          <p:nvPr/>
        </p:nvPicPr>
        <p:blipFill>
          <a:blip r:embed="rId1"/>
          <a:stretch/>
        </p:blipFill>
        <p:spPr>
          <a:xfrm>
            <a:off x="2228760" y="27000"/>
            <a:ext cx="4684680" cy="68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gla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0" y="487440"/>
            <a:ext cx="9144000" cy="5883120"/>
            <a:chOff x="0" y="487440"/>
            <a:chExt cx="9144000" cy="5883120"/>
          </a:xfrm>
        </p:grpSpPr>
        <p:sp>
          <p:nvSpPr>
            <p:cNvPr id="73" name="Rectangle 4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  </a:t>
              </a:r>
              <a:r>
                <a:rPr b="1" i="1" lang="en-GB" sz="36000" spc="-1" strike="noStrike">
                  <a:solidFill>
                    <a:srgbClr val="00ccff"/>
                  </a:solidFill>
                  <a:latin typeface="Times New Roman"/>
                </a:rPr>
                <a:t> </a:t>
              </a: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Picture 3" descr="Kaart van Duitsland"/>
          <p:cNvPicPr/>
          <p:nvPr/>
        </p:nvPicPr>
        <p:blipFill>
          <a:blip r:embed="rId1"/>
          <a:stretch/>
        </p:blipFill>
        <p:spPr>
          <a:xfrm>
            <a:off x="1523880" y="533520"/>
            <a:ext cx="504036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lem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rte_ecosse"/>
          <p:cNvPicPr/>
          <p:nvPr/>
        </p:nvPicPr>
        <p:blipFill>
          <a:blip r:embed="rId1"/>
          <a:stretch/>
        </p:blipFill>
        <p:spPr>
          <a:xfrm>
            <a:off x="2509920" y="696960"/>
            <a:ext cx="4125960" cy="546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o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arte%20Angleterre"/>
          <p:cNvPicPr/>
          <p:nvPr/>
        </p:nvPicPr>
        <p:blipFill>
          <a:blip r:embed="rId1"/>
          <a:stretch/>
        </p:blipFill>
        <p:spPr>
          <a:xfrm>
            <a:off x="2228760" y="27000"/>
            <a:ext cx="4684680" cy="6804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glat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487440"/>
            <a:ext cx="9144000" cy="5883120"/>
            <a:chOff x="0" y="487440"/>
            <a:chExt cx="9144000" cy="5883120"/>
          </a:xfrm>
        </p:grpSpPr>
        <p:sp>
          <p:nvSpPr>
            <p:cNvPr id="82" name="Rectangle 3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4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  </a:t>
              </a:r>
              <a:r>
                <a:rPr b="1" i="1" lang="en-GB" sz="36000" spc="-1" strike="noStrike">
                  <a:solidFill>
                    <a:srgbClr val="00ccff"/>
                  </a:solidFill>
                  <a:latin typeface="Times New Roman"/>
                </a:rPr>
                <a:t> </a:t>
              </a: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Picture 5" descr="Kaart van Duitsland"/>
          <p:cNvPicPr/>
          <p:nvPr/>
        </p:nvPicPr>
        <p:blipFill>
          <a:blip r:embed="rId1"/>
          <a:stretch/>
        </p:blipFill>
        <p:spPr>
          <a:xfrm>
            <a:off x="1523880" y="533520"/>
            <a:ext cx="504036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lem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arte%20Angleterre"/>
          <p:cNvPicPr/>
          <p:nvPr/>
        </p:nvPicPr>
        <p:blipFill>
          <a:blip r:embed="rId1"/>
          <a:stretch/>
        </p:blipFill>
        <p:spPr>
          <a:xfrm>
            <a:off x="2228760" y="27000"/>
            <a:ext cx="46846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arte_ecosse"/>
          <p:cNvPicPr/>
          <p:nvPr/>
        </p:nvPicPr>
        <p:blipFill>
          <a:blip r:embed="rId1"/>
          <a:stretch/>
        </p:blipFill>
        <p:spPr>
          <a:xfrm>
            <a:off x="2509920" y="696960"/>
            <a:ext cx="4125960" cy="5464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o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arte_Cymru"/>
          <p:cNvPicPr/>
          <p:nvPr/>
        </p:nvPicPr>
        <p:blipFill>
          <a:blip r:embed="rId1"/>
          <a:stretch/>
        </p:blipFill>
        <p:spPr>
          <a:xfrm>
            <a:off x="3422520" y="1177920"/>
            <a:ext cx="4389480" cy="45036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2195640" y="2565360"/>
            <a:ext cx="230328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8000" y="3141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arte United Kindom"/>
          <p:cNvPicPr/>
          <p:nvPr/>
        </p:nvPicPr>
        <p:blipFill>
          <a:blip r:embed="rId1"/>
          <a:stretch/>
        </p:blipFill>
        <p:spPr>
          <a:xfrm>
            <a:off x="2492280" y="1131840"/>
            <a:ext cx="4160880" cy="4594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-36360" y="14810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 Bret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largemap"/>
          <p:cNvPicPr/>
          <p:nvPr/>
        </p:nvPicPr>
        <p:blipFill>
          <a:blip r:embed="rId1"/>
          <a:stretch/>
        </p:blipFill>
        <p:spPr>
          <a:xfrm>
            <a:off x="2030400" y="374760"/>
            <a:ext cx="5083200" cy="6108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0" y="321300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l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7"/>
          <p:cNvGrpSpPr/>
          <p:nvPr/>
        </p:nvGrpSpPr>
        <p:grpSpPr>
          <a:xfrm>
            <a:off x="-2052720" y="1820880"/>
            <a:ext cx="13250880" cy="3216240"/>
            <a:chOff x="-2052720" y="1820880"/>
            <a:chExt cx="13250880" cy="3216240"/>
          </a:xfrm>
        </p:grpSpPr>
        <p:sp>
          <p:nvSpPr>
            <p:cNvPr id="96" name="Rectangle 6"/>
            <p:cNvSpPr/>
            <p:nvPr/>
          </p:nvSpPr>
          <p:spPr>
            <a:xfrm>
              <a:off x="-2052720" y="1820880"/>
              <a:ext cx="13250880" cy="32162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Group 5"/>
            <p:cNvGrpSpPr/>
            <p:nvPr/>
          </p:nvGrpSpPr>
          <p:grpSpPr>
            <a:xfrm>
              <a:off x="-2052720" y="1820880"/>
              <a:ext cx="13250880" cy="3216240"/>
              <a:chOff x="-2052720" y="1820880"/>
              <a:chExt cx="13250880" cy="3216240"/>
            </a:xfrm>
          </p:grpSpPr>
          <p:sp>
            <p:nvSpPr>
              <p:cNvPr id="98" name="Rectangle 2"/>
              <p:cNvSpPr/>
              <p:nvPr/>
            </p:nvSpPr>
            <p:spPr>
              <a:xfrm>
                <a:off x="-2052720" y="1820880"/>
                <a:ext cx="5045040" cy="4111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3"/>
              <p:cNvSpPr/>
              <p:nvPr/>
            </p:nvSpPr>
            <p:spPr>
              <a:xfrm>
                <a:off x="-2052720" y="1820880"/>
                <a:ext cx="13250880" cy="32162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  </a:t>
                </a:r>
                <a:r>
                  <a:rPr b="0" lang="en-GB" sz="198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 </a:t>
                </a:r>
                <a:r>
                  <a:rPr b="0" lang="en-GB" sz="700" spc="-1" strike="noStrike">
                    <a:solidFill>
                      <a:srgbClr val="6666ff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0" name="Picture 4" descr="index"/>
          <p:cNvPicPr/>
          <p:nvPr/>
        </p:nvPicPr>
        <p:blipFill>
          <a:blip r:embed="rId1"/>
          <a:stretch/>
        </p:blipFill>
        <p:spPr>
          <a:xfrm>
            <a:off x="2013120" y="1866960"/>
            <a:ext cx="4468680" cy="3143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2987640" y="76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italien"/>
          <p:cNvPicPr/>
          <p:nvPr/>
        </p:nvPicPr>
        <p:blipFill>
          <a:blip r:embed="rId1"/>
          <a:stretch/>
        </p:blipFill>
        <p:spPr>
          <a:xfrm>
            <a:off x="2286000" y="635040"/>
            <a:ext cx="4572000" cy="5589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-36360" y="31417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arte de France"/>
          <p:cNvPicPr/>
          <p:nvPr/>
        </p:nvPicPr>
        <p:blipFill>
          <a:blip r:embed="rId1"/>
          <a:stretch/>
        </p:blipFill>
        <p:spPr>
          <a:xfrm>
            <a:off x="2633760" y="92160"/>
            <a:ext cx="6114960" cy="6675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79280" y="278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066760" y="18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arte de la Suisse"/>
          <p:cNvPicPr/>
          <p:nvPr/>
        </p:nvPicPr>
        <p:blipFill>
          <a:blip r:embed="rId1"/>
          <a:stretch/>
        </p:blipFill>
        <p:spPr>
          <a:xfrm>
            <a:off x="2235240" y="1881360"/>
            <a:ext cx="4675320" cy="3097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684360" y="2060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arte%20Angleterre"/>
          <p:cNvPicPr/>
          <p:nvPr/>
        </p:nvPicPr>
        <p:blipFill>
          <a:blip r:embed="rId1"/>
          <a:stretch/>
        </p:blipFill>
        <p:spPr>
          <a:xfrm>
            <a:off x="1403280" y="549360"/>
            <a:ext cx="1201680" cy="174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684360" y="404640"/>
          <a:ext cx="7920000" cy="5904000"/>
        </p:xfrm>
        <a:graphic>
          <a:graphicData uri="http://schemas.openxmlformats.org/drawingml/2006/table">
            <a:tbl>
              <a:tblPr/>
              <a:tblGrid>
                <a:gridCol w="2639880"/>
                <a:gridCol w="2639880"/>
                <a:gridCol w="2640240"/>
              </a:tblGrid>
              <a:tr h="19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Picture 24" descr="italien"/>
          <p:cNvPicPr/>
          <p:nvPr/>
        </p:nvPicPr>
        <p:blipFill>
          <a:blip r:embed="rId2"/>
          <a:stretch/>
        </p:blipFill>
        <p:spPr>
          <a:xfrm>
            <a:off x="3784680" y="404640"/>
            <a:ext cx="1579320" cy="1932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5" descr="Carte de France"/>
          <p:cNvPicPr/>
          <p:nvPr/>
        </p:nvPicPr>
        <p:blipFill>
          <a:blip r:embed="rId3"/>
          <a:stretch/>
        </p:blipFill>
        <p:spPr>
          <a:xfrm>
            <a:off x="6588000" y="450720"/>
            <a:ext cx="1739880" cy="1898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largemap"/>
          <p:cNvPicPr/>
          <p:nvPr/>
        </p:nvPicPr>
        <p:blipFill>
          <a:blip r:embed="rId4"/>
          <a:stretch/>
        </p:blipFill>
        <p:spPr>
          <a:xfrm>
            <a:off x="1332000" y="2565360"/>
            <a:ext cx="1404720" cy="168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carte_ecosse"/>
          <p:cNvPicPr/>
          <p:nvPr/>
        </p:nvPicPr>
        <p:blipFill>
          <a:blip r:embed="rId5"/>
          <a:stretch/>
        </p:blipFill>
        <p:spPr>
          <a:xfrm>
            <a:off x="3924360" y="2421000"/>
            <a:ext cx="1409760" cy="1868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index"/>
          <p:cNvPicPr/>
          <p:nvPr/>
        </p:nvPicPr>
        <p:blipFill>
          <a:blip r:embed="rId6"/>
          <a:stretch/>
        </p:blipFill>
        <p:spPr>
          <a:xfrm>
            <a:off x="6300720" y="2579760"/>
            <a:ext cx="22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9" descr="Carte United Kindom"/>
          <p:cNvPicPr/>
          <p:nvPr/>
        </p:nvPicPr>
        <p:blipFill>
          <a:blip r:embed="rId7"/>
          <a:stretch/>
        </p:blipFill>
        <p:spPr>
          <a:xfrm>
            <a:off x="1258920" y="4373640"/>
            <a:ext cx="1623960" cy="1792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carte_Cymru"/>
          <p:cNvPicPr/>
          <p:nvPr/>
        </p:nvPicPr>
        <p:blipFill>
          <a:blip r:embed="rId8"/>
          <a:stretch/>
        </p:blipFill>
        <p:spPr>
          <a:xfrm>
            <a:off x="4024440" y="4343400"/>
            <a:ext cx="1915920" cy="1965240"/>
          </a:xfrm>
          <a:prstGeom prst="rect">
            <a:avLst/>
          </a:prstGeom>
          <a:ln w="0">
            <a:noFill/>
          </a:ln>
        </p:spPr>
      </p:pic>
      <p:sp>
        <p:nvSpPr>
          <p:cNvPr id="118" name="Line 31"/>
          <p:cNvSpPr/>
          <p:nvPr/>
        </p:nvSpPr>
        <p:spPr>
          <a:xfrm>
            <a:off x="3708360" y="5084640"/>
            <a:ext cx="86364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2" descr="Carte de la Suisse"/>
          <p:cNvPicPr/>
          <p:nvPr/>
        </p:nvPicPr>
        <p:blipFill>
          <a:blip r:embed="rId9"/>
          <a:stretch/>
        </p:blipFill>
        <p:spPr>
          <a:xfrm>
            <a:off x="6229440" y="4581360"/>
            <a:ext cx="20876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arte%20Angleterre"/>
          <p:cNvPicPr/>
          <p:nvPr/>
        </p:nvPicPr>
        <p:blipFill>
          <a:blip r:embed="rId1"/>
          <a:stretch/>
        </p:blipFill>
        <p:spPr>
          <a:xfrm>
            <a:off x="1403280" y="549360"/>
            <a:ext cx="1201680" cy="174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84360" y="404640"/>
          <a:ext cx="7920000" cy="5904000"/>
        </p:xfrm>
        <a:graphic>
          <a:graphicData uri="http://schemas.openxmlformats.org/drawingml/2006/table">
            <a:tbl>
              <a:tblPr/>
              <a:tblGrid>
                <a:gridCol w="2639880"/>
                <a:gridCol w="2639880"/>
                <a:gridCol w="2640240"/>
              </a:tblGrid>
              <a:tr h="19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Picture 21" descr="italien"/>
          <p:cNvPicPr/>
          <p:nvPr/>
        </p:nvPicPr>
        <p:blipFill>
          <a:blip r:embed="rId2"/>
          <a:stretch/>
        </p:blipFill>
        <p:spPr>
          <a:xfrm>
            <a:off x="3784680" y="404640"/>
            <a:ext cx="1579320" cy="1932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Carte de France"/>
          <p:cNvPicPr/>
          <p:nvPr/>
        </p:nvPicPr>
        <p:blipFill>
          <a:blip r:embed="rId3"/>
          <a:stretch/>
        </p:blipFill>
        <p:spPr>
          <a:xfrm>
            <a:off x="6588000" y="450720"/>
            <a:ext cx="1739880" cy="1898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largemap"/>
          <p:cNvPicPr/>
          <p:nvPr/>
        </p:nvPicPr>
        <p:blipFill>
          <a:blip r:embed="rId4"/>
          <a:stretch/>
        </p:blipFill>
        <p:spPr>
          <a:xfrm>
            <a:off x="1332000" y="2565360"/>
            <a:ext cx="1404720" cy="168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4" descr="carte_ecosse"/>
          <p:cNvPicPr/>
          <p:nvPr/>
        </p:nvPicPr>
        <p:blipFill>
          <a:blip r:embed="rId5"/>
          <a:stretch/>
        </p:blipFill>
        <p:spPr>
          <a:xfrm>
            <a:off x="3924360" y="2421000"/>
            <a:ext cx="1409760" cy="1868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5" descr="index"/>
          <p:cNvPicPr/>
          <p:nvPr/>
        </p:nvPicPr>
        <p:blipFill>
          <a:blip r:embed="rId6"/>
          <a:stretch/>
        </p:blipFill>
        <p:spPr>
          <a:xfrm>
            <a:off x="6300720" y="2579760"/>
            <a:ext cx="22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6" descr="Carte United Kindom"/>
          <p:cNvPicPr/>
          <p:nvPr/>
        </p:nvPicPr>
        <p:blipFill>
          <a:blip r:embed="rId7"/>
          <a:stretch/>
        </p:blipFill>
        <p:spPr>
          <a:xfrm>
            <a:off x="1258920" y="4373640"/>
            <a:ext cx="1623960" cy="179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carte_Cymru"/>
          <p:cNvPicPr/>
          <p:nvPr/>
        </p:nvPicPr>
        <p:blipFill>
          <a:blip r:embed="rId8"/>
          <a:stretch/>
        </p:blipFill>
        <p:spPr>
          <a:xfrm>
            <a:off x="4024440" y="4343400"/>
            <a:ext cx="1915920" cy="1965240"/>
          </a:xfrm>
          <a:prstGeom prst="rect">
            <a:avLst/>
          </a:prstGeom>
          <a:ln w="0">
            <a:noFill/>
          </a:ln>
        </p:spPr>
      </p:pic>
      <p:sp>
        <p:nvSpPr>
          <p:cNvPr id="129" name="Line 28"/>
          <p:cNvSpPr/>
          <p:nvPr/>
        </p:nvSpPr>
        <p:spPr>
          <a:xfrm>
            <a:off x="3708360" y="5084640"/>
            <a:ext cx="86364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9" descr="Carte de la Suisse"/>
          <p:cNvPicPr/>
          <p:nvPr/>
        </p:nvPicPr>
        <p:blipFill>
          <a:blip r:embed="rId9"/>
          <a:stretch/>
        </p:blipFill>
        <p:spPr>
          <a:xfrm>
            <a:off x="6229440" y="4581360"/>
            <a:ext cx="20876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487440"/>
            <a:ext cx="9144000" cy="5883120"/>
            <a:chOff x="0" y="487440"/>
            <a:chExt cx="9144000" cy="5883120"/>
          </a:xfrm>
        </p:grpSpPr>
        <p:sp>
          <p:nvSpPr>
            <p:cNvPr id="45" name="Rectangle 3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  </a:t>
              </a:r>
              <a:r>
                <a:rPr b="1" i="1" lang="en-GB" sz="36000" spc="-1" strike="noStrike">
                  <a:solidFill>
                    <a:srgbClr val="00ccff"/>
                  </a:solidFill>
                  <a:latin typeface="Times New Roman"/>
                </a:rPr>
                <a:t> </a:t>
              </a: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Picture 5" descr="Kaart van Duitsland"/>
          <p:cNvPicPr/>
          <p:nvPr/>
        </p:nvPicPr>
        <p:blipFill>
          <a:blip r:embed="rId1"/>
          <a:stretch/>
        </p:blipFill>
        <p:spPr>
          <a:xfrm>
            <a:off x="1523880" y="533520"/>
            <a:ext cx="5040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arte de la Suisse"/>
          <p:cNvPicPr/>
          <p:nvPr/>
        </p:nvPicPr>
        <p:blipFill>
          <a:blip r:embed="rId1"/>
          <a:stretch/>
        </p:blipFill>
        <p:spPr>
          <a:xfrm>
            <a:off x="7056360" y="5229360"/>
            <a:ext cx="2087640" cy="1382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arte de France"/>
          <p:cNvPicPr/>
          <p:nvPr/>
        </p:nvPicPr>
        <p:blipFill>
          <a:blip r:embed="rId2"/>
          <a:stretch/>
        </p:blipFill>
        <p:spPr>
          <a:xfrm>
            <a:off x="1979640" y="333360"/>
            <a:ext cx="1739880" cy="189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ndex"/>
          <p:cNvPicPr/>
          <p:nvPr/>
        </p:nvPicPr>
        <p:blipFill>
          <a:blip r:embed="rId3"/>
          <a:stretch/>
        </p:blipFill>
        <p:spPr>
          <a:xfrm>
            <a:off x="-1116000" y="6858000"/>
            <a:ext cx="2232000" cy="156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arte_ecosse"/>
          <p:cNvPicPr/>
          <p:nvPr/>
        </p:nvPicPr>
        <p:blipFill>
          <a:blip r:embed="rId4"/>
          <a:stretch/>
        </p:blipFill>
        <p:spPr>
          <a:xfrm>
            <a:off x="-468360" y="-2187720"/>
            <a:ext cx="1409760" cy="186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italien"/>
          <p:cNvPicPr/>
          <p:nvPr/>
        </p:nvPicPr>
        <p:blipFill>
          <a:blip r:embed="rId5"/>
          <a:stretch/>
        </p:blipFill>
        <p:spPr>
          <a:xfrm>
            <a:off x="3492360" y="2421000"/>
            <a:ext cx="1579680" cy="1931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largemap"/>
          <p:cNvPicPr/>
          <p:nvPr/>
        </p:nvPicPr>
        <p:blipFill>
          <a:blip r:embed="rId6"/>
          <a:stretch/>
        </p:blipFill>
        <p:spPr>
          <a:xfrm>
            <a:off x="0" y="2421000"/>
            <a:ext cx="1405080" cy="1687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carte_Cymru"/>
          <p:cNvPicPr/>
          <p:nvPr/>
        </p:nvPicPr>
        <p:blipFill>
          <a:blip r:embed="rId7"/>
          <a:stretch/>
        </p:blipFill>
        <p:spPr>
          <a:xfrm>
            <a:off x="3132000" y="4892760"/>
            <a:ext cx="1916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097 -0.46828 C -0.15538 -0.45972 -0.17152 -0.45115 -0.17864 -0.44004 C -0.18593 -0.42824 -0.18958 -0.41412 -0.19305 -0.4 C -0.1967 -0.38564 -0.19305 -0.37384 -0.18958 -0.36088 C -0.18593 -0.34884 -0.18055 -0.33564 -0.16788 -0.325 C -0.15729 -0.31412 -0.13906 -0.30532 -0.11944 -0.29884 C -0.10138 -0.29236 -0.07986 -0.28796 -0.05833 -0.28564 C -0.03698 -0.28356 -0.01545 -0.28356 0.00452 -0.28564 C 0.02605 -0.28796 0.04566 -0.29351 0.06181 -0.30208 C 0.07813 -0.30972 0.09237 -0.31944 0.09966 -0.33148 C 0.10868 -0.34236 0.11198 -0.3574 0.11198 -0.36944 C 0.11389 -0.38148 0.11198 -0.3956 0.10296 -0.4074 C 0.09427 -0.41828 0.07813 -0.42708 0.0566 -0.43148 C 0.03473 -0.43472 0.0132 -0.43032 -0.00104 -0.42268 C -0.01354 -0.41527 -0.02257 -0.403 -0.02448 -0.38912 C -0.02448 -0.375 -0.02257 -0.36203 -0.01354 -0.35092 C -0.00451 -0.34004 -0.00642 -0.33796 0.02952 -0.32384 C 0.06181 -0.30856 0.09427 -0.31296 0.11389 -0.31203 C 0.13351 -0.31203 0.14983 -0.31643 0.16945 -0.3206 C 0.19115 -0.32592 0.20903 -0.33564 0.22171 -0.34444 C 0.23421 -0.353 0.23959 -0.36412 0.24671 -0.38148 C 0.25209 -0.39884 0.25209 -0.4074 0.25209 -0.4206 C 0.25209 -0.43379 0.25209 -0.44675 0.25209 -0.45972 E">
                                      <p:cBhvr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503 -0.00162 C -0.20903 -0.01227 -0.22309 -0.02292 -0.22795 -0.02292 C -0.25903 -0.02292 -0.29097 0.14375 -0.29097 0.31041 C -0.29097 0.22639 -0.30694 0.14375 -0.32205 0.14375 C -0.33802 0.14375 -0.35312 0.22777 -0.35312 0.31041 C -0.35312 0.26898 -0.36111 0.22639 -0.3691 0.22639 C -0.37708 0.22639 -0.38507 0.26782 -0.38507 0.31041 C -0.38507 0.28912 -0.38906 0.26898 -0.39305 0.26898 C -0.39705 0.26898 -0.40104 0.29027 -0.40104 0.31041 C -0.40104 0.29977 -0.40312 0.28912 -0.40503 0.28912 C -0.40607 0.28912 -0.40903 0.29977 -0.40903 0.31041 C -0.40903 0.30509 -0.41007 0.29977 -0.41111 0.29977 C -0.41111 0.29838 -0.41337 0.30509 -0.41337 0.31041 C -0.41337 0.30764 -0.41337 0.30509 -0.41423 0.30509 C -0.41423 0.30648 -0.41528 0.30787 -0.41528 0.31041 C -0.41528 0.30902 -0.41528 0.30764 -0.41528 0.30648 C -0.41632 0.30648 -0.41632 0.30787 -0.41632 0.30926 C -0.41736 0.30926 -0.41736 0.30787 -0.41736 0.30648 C -0.4184 0.30648 -0.4184 0.30787 -0.4184 0.30926 E">
                                      <p:cBhvr>
                                        <p:cTn id="19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688 0.20255 L 1.13785 -1.24444 E">
                                      <p:cBhvr>
                                        <p:cTn id="19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36 0.05255 L 1.1592 1.40718 E">
                                      <p:cBhvr>
                                        <p:cTn id="20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80880" y="304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¿De dónde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80880" y="1219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Angus McHagg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1828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Anna Pi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80880" y="2438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Prince Char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808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lame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088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Daffodil Lee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80880" y="4267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Michael Schuma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80880" y="4876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.Shamrock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57200" y="563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.Yves Saint Lau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1" descr="PE07426_"/>
          <p:cNvPicPr/>
          <p:nvPr/>
        </p:nvPicPr>
        <p:blipFill>
          <a:blip r:embed="rId1"/>
          <a:stretch/>
        </p:blipFill>
        <p:spPr>
          <a:xfrm>
            <a:off x="4267080" y="685800"/>
            <a:ext cx="1322640" cy="129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FD00805_"/>
          <p:cNvPicPr/>
          <p:nvPr/>
        </p:nvPicPr>
        <p:blipFill>
          <a:blip r:embed="rId2"/>
          <a:stretch/>
        </p:blipFill>
        <p:spPr>
          <a:xfrm>
            <a:off x="6172200" y="2209680"/>
            <a:ext cx="1382760" cy="134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PE03465_"/>
          <p:cNvPicPr/>
          <p:nvPr/>
        </p:nvPicPr>
        <p:blipFill>
          <a:blip r:embed="rId3"/>
          <a:stretch/>
        </p:blipFill>
        <p:spPr>
          <a:xfrm>
            <a:off x="4267080" y="3352680"/>
            <a:ext cx="1219320" cy="1211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AN02494_"/>
          <p:cNvPicPr/>
          <p:nvPr/>
        </p:nvPicPr>
        <p:blipFill>
          <a:blip r:embed="rId4"/>
          <a:stretch/>
        </p:blipFill>
        <p:spPr>
          <a:xfrm>
            <a:off x="6248520" y="4800600"/>
            <a:ext cx="15444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684360" y="1844640"/>
            <a:ext cx="80643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glaterra, Alemania, Españ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nglaterra, Alemania, Españ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ales, Gran Bretaña, Francia, Gales, Gran Bretaña, Francia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Italia,  Suiza y Escocia tambié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If you’re happy and you know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j0213485"/>
          <p:cNvPicPr/>
          <p:nvPr/>
        </p:nvPicPr>
        <p:blipFill>
          <a:blip r:embed="rId1"/>
          <a:stretch/>
        </p:blipFill>
        <p:spPr>
          <a:xfrm>
            <a:off x="7308720" y="333360"/>
            <a:ext cx="695520" cy="1266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j0213485"/>
          <p:cNvPicPr/>
          <p:nvPr/>
        </p:nvPicPr>
        <p:blipFill>
          <a:blip r:embed="rId2"/>
          <a:stretch/>
        </p:blipFill>
        <p:spPr>
          <a:xfrm>
            <a:off x="500040" y="5857920"/>
            <a:ext cx="2430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europe"/>
          <p:cNvPicPr/>
          <p:nvPr/>
        </p:nvPicPr>
        <p:blipFill>
          <a:blip r:embed="rId1"/>
          <a:stretch/>
        </p:blipFill>
        <p:spPr>
          <a:xfrm>
            <a:off x="2195640" y="1600200"/>
            <a:ext cx="4754520" cy="3657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258920" y="47628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Los paises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j0213485"/>
          <p:cNvPicPr/>
          <p:nvPr/>
        </p:nvPicPr>
        <p:blipFill>
          <a:blip r:embed="rId2"/>
          <a:stretch/>
        </p:blipFill>
        <p:spPr>
          <a:xfrm>
            <a:off x="7308720" y="333360"/>
            <a:ext cx="69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042920" y="998640"/>
            <a:ext cx="511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3" descr="europe"/>
          <p:cNvPicPr/>
          <p:nvPr/>
        </p:nvPicPr>
        <p:blipFill>
          <a:blip r:embed="rId1"/>
          <a:stretch/>
        </p:blipFill>
        <p:spPr>
          <a:xfrm>
            <a:off x="1258920" y="-27000"/>
            <a:ext cx="6845400" cy="6570720"/>
          </a:xfrm>
          <a:prstGeom prst="rect">
            <a:avLst/>
          </a:prstGeom>
          <a:ln w="0">
            <a:noFill/>
          </a:ln>
        </p:spPr>
      </p:pic>
      <p:sp>
        <p:nvSpPr>
          <p:cNvPr id="159" name="Line 4"/>
          <p:cNvSpPr/>
          <p:nvPr/>
        </p:nvSpPr>
        <p:spPr>
          <a:xfrm flipV="1">
            <a:off x="1692360" y="3375000"/>
            <a:ext cx="165564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619280" y="4167360"/>
            <a:ext cx="1800360" cy="7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3419640" y="1574640"/>
            <a:ext cx="1081080" cy="201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1332000" y="4959360"/>
            <a:ext cx="12952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8"/>
          <p:cNvSpPr/>
          <p:nvPr/>
        </p:nvSpPr>
        <p:spPr>
          <a:xfrm flipH="1">
            <a:off x="4211280" y="2708280"/>
            <a:ext cx="2808360" cy="172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 flipV="1">
            <a:off x="3780000" y="5102280"/>
            <a:ext cx="86328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692360" y="2438280"/>
            <a:ext cx="1008000" cy="505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484360" y="1646280"/>
            <a:ext cx="719280" cy="72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1835280" y="3159000"/>
            <a:ext cx="1224000" cy="7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792000" y="206064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l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1116000" y="1268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o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684360" y="2852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250920" y="342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glat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34920" y="3908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0" y="465300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2556000" y="11714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e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3203640" y="57801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a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6588000" y="2205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iz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arte_ecosse"/>
          <p:cNvPicPr/>
          <p:nvPr/>
        </p:nvPicPr>
        <p:blipFill>
          <a:blip r:embed="rId1"/>
          <a:stretch/>
        </p:blipFill>
        <p:spPr>
          <a:xfrm>
            <a:off x="2509920" y="696960"/>
            <a:ext cx="41259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arte%20Angleterre"/>
          <p:cNvPicPr/>
          <p:nvPr/>
        </p:nvPicPr>
        <p:blipFill>
          <a:blip r:embed="rId1"/>
          <a:stretch/>
        </p:blipFill>
        <p:spPr>
          <a:xfrm>
            <a:off x="2228760" y="27000"/>
            <a:ext cx="46846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487440"/>
            <a:ext cx="9144000" cy="5883120"/>
            <a:chOff x="0" y="487440"/>
            <a:chExt cx="9144000" cy="5883120"/>
          </a:xfrm>
        </p:grpSpPr>
        <p:sp>
          <p:nvSpPr>
            <p:cNvPr id="51" name="Rectangle 3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487440"/>
              <a:ext cx="9144000" cy="58831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  </a:t>
              </a:r>
              <a:r>
                <a:rPr b="1" i="1" lang="en-GB" sz="36000" spc="-1" strike="noStrike">
                  <a:solidFill>
                    <a:srgbClr val="00ccff"/>
                  </a:solidFill>
                  <a:latin typeface="Times New Roman"/>
                </a:rPr>
                <a:t> </a:t>
              </a:r>
              <a:r>
                <a:rPr b="1" i="1" lang="en-GB" sz="2000" spc="-1" strike="noStrike">
                  <a:solidFill>
                    <a:srgbClr val="00ccff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Picture 5" descr="Kaart van Duitsland"/>
          <p:cNvPicPr/>
          <p:nvPr/>
        </p:nvPicPr>
        <p:blipFill>
          <a:blip r:embed="rId1"/>
          <a:stretch/>
        </p:blipFill>
        <p:spPr>
          <a:xfrm>
            <a:off x="1523880" y="533520"/>
            <a:ext cx="5040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arte_ecosse"/>
          <p:cNvPicPr/>
          <p:nvPr/>
        </p:nvPicPr>
        <p:blipFill>
          <a:blip r:embed="rId1"/>
          <a:stretch/>
        </p:blipFill>
        <p:spPr>
          <a:xfrm>
            <a:off x="2509920" y="696960"/>
            <a:ext cx="41259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arte_Cymru"/>
          <p:cNvPicPr/>
          <p:nvPr/>
        </p:nvPicPr>
        <p:blipFill>
          <a:blip r:embed="rId1"/>
          <a:stretch/>
        </p:blipFill>
        <p:spPr>
          <a:xfrm>
            <a:off x="3422520" y="1177920"/>
            <a:ext cx="4389480" cy="4503600"/>
          </a:xfrm>
          <a:prstGeom prst="rect">
            <a:avLst/>
          </a:prstGeom>
          <a:ln w="0">
            <a:noFill/>
          </a:ln>
        </p:spPr>
      </p:pic>
      <p:sp>
        <p:nvSpPr>
          <p:cNvPr id="56" name="Line 3"/>
          <p:cNvSpPr/>
          <p:nvPr/>
        </p:nvSpPr>
        <p:spPr>
          <a:xfrm>
            <a:off x="2195640" y="2565360"/>
            <a:ext cx="230328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arte United Kindom"/>
          <p:cNvPicPr/>
          <p:nvPr/>
        </p:nvPicPr>
        <p:blipFill>
          <a:blip r:embed="rId1"/>
          <a:stretch/>
        </p:blipFill>
        <p:spPr>
          <a:xfrm>
            <a:off x="2492280" y="1131840"/>
            <a:ext cx="41608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9:41:22Z</dcterms:created>
  <dc:creator>Family</dc:creator>
  <dc:description/>
  <dc:language>en-US</dc:language>
  <cp:lastModifiedBy>Teacher</cp:lastModifiedBy>
  <dcterms:modified xsi:type="dcterms:W3CDTF">2010-02-19T20:44:46Z</dcterms:modified>
  <cp:revision>12</cp:revision>
  <dc:subject/>
  <dc:title>PowerPoint Presentation</dc:title>
</cp:coreProperties>
</file>